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41BEE-3B82-4532-9A90-79F392704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E2D0D-6A48-4DA9-8035-B8188C7E1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07805-BFD9-4B2E-8DB9-B3FE55029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2C624-97A3-47C8-A811-92585EE2F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E575A-AC48-446E-ADF0-924CF5D02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44CFB-ED13-4A25-8625-1D01A527E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B9ACC-8842-44F0-9D57-B232C2933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BA1D9-8241-403E-BAA2-1034C7C0D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F7AFB-614C-48FF-B032-A335933A9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67BDD-B854-4600-8D1E-DCBA39146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34E3C-084B-4F65-A2E8-A2C8C007A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68398-6ADD-45B5-8A84-787DB2669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550F1-27E4-4E87-A2A6-1155836F6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DBF77-0B2B-463E-89C9-6378F5076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EDCE5-030C-4AE0-8B84-90490A7CD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18579-E8A3-4CEE-A3CF-2A5ED1DDE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67F1E-A2C1-43F6-B056-D9256DB6F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499A6-894A-4B35-9C6E-47DEBB37E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B8F24-19B2-4A22-8995-E1EB0DA71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32521-E21A-480D-9831-F0D1B3B13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2D15C-79DE-4A6E-89D6-C2D3B7DD5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B47E3-5B53-4187-B6BC-863192B87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15E0D-2464-4A2E-BABB-0314C8E88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3326C-3650-4B0F-9D07-19D071EE0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D331B-A7AA-45E8-A7A6-AED379B7CBFE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895480"/>
            <a:ext cx="85928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4124160"/>
            <a:ext cx="767700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A76A7-0A1C-4BF8-9054-B10480AE18D3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9120" y="2418840"/>
            <a:ext cx="85932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제 </a:t>
            </a:r>
            <a:r>
              <a:rPr b="0" lang="en-US" sz="4400" spc="-1" strike="noStrike">
                <a:solidFill>
                  <a:srgbClr val="a3007c"/>
                </a:solidFill>
                <a:latin typeface="굴림"/>
                <a:ea typeface="굴림"/>
              </a:rPr>
              <a:t>4</a:t>
            </a: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장 정신지체아 교육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11000" y="4362480"/>
            <a:ext cx="7677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66560" y="1339920"/>
            <a:ext cx="8226720" cy="517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199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AAMR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평균 이하의 지적 능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0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가지 적응기술능력에서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2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가지 이상의 적응적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세 이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200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AAMR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기능의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개념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 적응기술에서 상당한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세 이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200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정의의 이론적 모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능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I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능력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개념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II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참여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상호작용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 역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V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신체적 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정신 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원인론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V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주변 상황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환경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문화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기회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정신지체의 개념 및 정의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a3007c"/>
                </a:solidFill>
                <a:latin typeface="굴림"/>
                <a:ea typeface="굴림"/>
              </a:rPr>
              <a:t>1992</a:t>
            </a: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년과 </a:t>
            </a:r>
            <a:r>
              <a:rPr b="0" lang="en-US" sz="4800" spc="-1" strike="noStrike">
                <a:solidFill>
                  <a:srgbClr val="a3007c"/>
                </a:solidFill>
                <a:latin typeface="굴림"/>
                <a:ea typeface="굴림"/>
              </a:rPr>
              <a:t>2002</a:t>
            </a: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년 정의 비교 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  <a:ea typeface="굴림"/>
              </a:rPr>
              <a:t>유지한 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정신지체 용어 계속 사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기능적 차원과 지원 강조는 동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진단의 세 가지 준거인 지능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행동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연령은 동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의 강도는 동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  <a:ea typeface="굴림"/>
              </a:rPr>
              <a:t>개선한 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요소에 표준편차 개념 삽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참여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상호작용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그리고 사회적 역할을 새로이 추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행동을 개념적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 기술로 표현한 것을 다면적 요소를 지닌 적용행동을 요인분석하고 개념화 하였다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을 사정하고 지원의 강도를 결정하기 위해 최근 연구결과 참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진단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분류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계획의 체계를 확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굴림"/>
                <a:ea typeface="굴림"/>
              </a:rPr>
              <a:t>정신지체 정의에 대하여 고려할 점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1)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정의의 확대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개념적 지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실질적 지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사회적 지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2) IQ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경계 점수를 낮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IQ 70-7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3)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정신지체는 더욱 좋아질 수도 있고 영구적이지 않을 수 있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환경과 지원의 정도 차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정상분포 곡선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286840" cy="45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  <a:ea typeface="굴림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393840" y="673200"/>
            <a:ext cx="8497800" cy="56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분류 및 특성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법적 분류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1, 2, 3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지원의 정도에 따른 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간헐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필요와 단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제한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정해진 기간 동안 일관된 지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광범위한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몇 환경에서 시간 제한 없는 정기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예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매일의 장기적인 가정 생활 지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전반적인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생애 전반에 걸쳐 모든 환경에서의 강도 높은 지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3)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지적 기능과 적응 기능의 수준에 따른 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경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중등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중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최중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2. 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특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진단 평가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 웩슬러 이동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-WISC-II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-1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1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언어성과 동작성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전체 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요인분석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언어적 이해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각적 조직화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주의집중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산만성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처리속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. K-AB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.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-12.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인지처리 척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능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습득도 척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성취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로 구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의 하위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순차처리와 동시처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 유아용 웩슬러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-WPPS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국립특수교육원 한국형 개인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ISE-KI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5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판 그림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PT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6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사회 성숙도 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17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의 문항으로 난이도 순서로 배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 일반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식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용의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이동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작업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의사소통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기관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사회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교육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교육목적 및 목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교육내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특수학교 기본교육과정의 기본적인 특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기능적 교육과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화용론에 관점을 둔 교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성교육에 관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퍼지이론과 진단평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a3007c"/>
                </a:solidFill>
                <a:latin typeface="Arial"/>
                <a:ea typeface="굴림"/>
              </a:rPr>
              <a:t>질문할 시간입니다</a:t>
            </a:r>
            <a:r>
              <a:rPr b="0" lang="en-US" sz="4000" spc="-1" strike="noStrike">
                <a:solidFill>
                  <a:srgbClr val="a3007c"/>
                </a:solidFill>
                <a:latin typeface="Arial"/>
                <a:ea typeface="굴림"/>
              </a:rPr>
              <a:t>.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2049480" y="1195560"/>
            <a:ext cx="561672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8T03:17:31Z</dcterms:created>
  <dc:creator/>
  <dc:description/>
  <dc:language>en-US</dc:language>
  <cp:lastModifiedBy>f</cp:lastModifiedBy>
  <dcterms:modified xsi:type="dcterms:W3CDTF">2007-04-05T04:00:23Z</dcterms:modified>
  <cp:revision>13</cp:revision>
  <dc:subject/>
  <dc:title>제 1장 교육과정과 교수학습</dc:title>
</cp:coreProperties>
</file>